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3F9A9F-F2BE-4F1F-8CBF-88CAEBB8CD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77488-A3A7-4704-B393-3F4EFFEAB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5431F-D9EC-4999-9246-F89CEEA1E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C3936-BB94-4E4F-B5C4-AE00B7C2A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26644-D59C-4E50-B185-8434F2C8E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E702E-D87D-42B9-9895-E867B7053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B1CF3-6A46-4513-8703-A4CCB8D62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582A5-BCDD-4DBB-96B9-35F24ADFD2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433CA-2A60-48C8-AA7A-5056B0179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1E93D-FB37-488D-90AF-D24C195E1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E6478-43BE-4D39-9454-1E99D88C87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D20C9-298E-4F79-93C9-AEA765E10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CECB-3BB1-4A86-B2D2-1CCC9FF745E9}"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Genetic structure of a population in cross pollinated crop – </a:t>
            </a:r>
            <a:br>
              <a:rPr sz="3200"/>
            </a:br>
            <a:r>
              <a:rPr b="1" lang="en-US" sz="3200" spc="-1" strike="noStrike">
                <a:solidFill>
                  <a:srgbClr val="000000"/>
                </a:solidFill>
                <a:latin typeface="Calibri"/>
              </a:rPr>
              <a:t>Hardy Weinberg law – gene frequencies in random mating population – principles in population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  </a:t>
            </a:r>
            <a:r>
              <a:rPr b="1" lang="en-IN" sz="2400" spc="-1" strike="noStrike">
                <a:solidFill>
                  <a:srgbClr val="000000"/>
                </a:solidFill>
                <a:latin typeface="Calibri"/>
              </a:rPr>
              <a:t>Random mating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ere the rate of reproduction of each individual is equal i.e. there is no selection and each male or female is equally likely to combine at random.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random mating is useful in plant breeding for the </a:t>
            </a:r>
            <a:r>
              <a:rPr b="1" lang="en-IN" sz="2400" spc="-1" strike="noStrike">
                <a:solidFill>
                  <a:srgbClr val="000000"/>
                </a:solidFill>
                <a:latin typeface="Calibri"/>
              </a:rPr>
              <a:t>production and maintenance of synthetic and composite varieties, production of polycross varie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50004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N" sz="4400" spc="-1" strike="noStrike">
                <a:solidFill>
                  <a:srgbClr val="000000"/>
                </a:solidFill>
                <a:latin typeface="Calibri"/>
              </a:rPr>
              <a:t>2.  </a:t>
            </a:r>
            <a:r>
              <a:rPr b="1" lang="en-IN" sz="4400" spc="-1" strike="noStrike">
                <a:solidFill>
                  <a:srgbClr val="000000"/>
                </a:solidFill>
                <a:latin typeface="Calibri"/>
              </a:rPr>
              <a:t>Genetic assortative mating</a:t>
            </a:r>
            <a:r>
              <a:rPr b="0" lang="en-IN"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2" name=""/>
          <p:cNvSpPr txBox="1"/>
          <p:nvPr/>
        </p:nvSpPr>
        <p:spPr>
          <a:xfrm>
            <a:off x="500040" y="1356840"/>
            <a:ext cx="8215200" cy="4929480"/>
          </a:xfrm>
          <a:prstGeom prst="rect">
            <a:avLst/>
          </a:prstGeom>
          <a:noFill/>
          <a:ln w="0">
            <a:noFill/>
          </a:ln>
        </p:spPr>
        <p:txBody>
          <a:bodyPr anchor="t">
            <a:normAutofit fontScale="97000"/>
          </a:bodyPr>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ere the mating will be between individuals that are closely related by ancestry ie. mating between individuals having more or less similar genotype.  It is other wise known as inbreeding.  The genetic assortative mating leads to</a:t>
            </a:r>
            <a:endParaRPr b="0" lang="en-US" sz="2400" spc="-1" strike="noStrike">
              <a:solidFill>
                <a:srgbClr val="000000"/>
              </a:solidFill>
              <a:latin typeface="Calibri"/>
            </a:endParaRPr>
          </a:p>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  Increase in homozygosity   ii)  Characters become fixed </a:t>
            </a:r>
            <a:endParaRPr b="0" lang="en-US" sz="2400" spc="-1" strike="noStrike">
              <a:solidFill>
                <a:srgbClr val="000000"/>
              </a:solidFill>
              <a:latin typeface="Calibri"/>
            </a:endParaRPr>
          </a:p>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i)  Lethal will be eliminated   iv)  Separation of population into lines.</a:t>
            </a:r>
            <a:endParaRPr b="0" lang="en-US" sz="2400" spc="-1" strike="noStrike">
              <a:solidFill>
                <a:srgbClr val="000000"/>
              </a:solidFill>
              <a:latin typeface="Calibri"/>
            </a:endParaRPr>
          </a:p>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enetic assortative mating is </a:t>
            </a:r>
            <a:r>
              <a:rPr b="1" lang="en-IN" sz="2400" spc="-1" strike="noStrike">
                <a:solidFill>
                  <a:srgbClr val="000000"/>
                </a:solidFill>
                <a:latin typeface="Calibri"/>
              </a:rPr>
              <a:t>useful for the development of inbre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3.  </a:t>
            </a:r>
            <a:r>
              <a:rPr b="1" lang="en-IN" sz="2200" spc="-1" strike="noStrike">
                <a:solidFill>
                  <a:srgbClr val="000000"/>
                </a:solidFill>
                <a:latin typeface="Calibri"/>
              </a:rPr>
              <a:t>Genetic disassortative mating</a:t>
            </a:r>
            <a:endParaRPr b="0" lang="en-US" sz="22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It is mating between individuals that are not closely related by ancestry. This system reduces homozygosity and increase heterozygosity . E.g.  Intervarietal and interspecific crosses.</a:t>
            </a:r>
            <a:br>
              <a:rPr sz="2200"/>
            </a:br>
            <a:r>
              <a:rPr b="0" lang="en-IN" sz="2200" spc="-1" strike="noStrike">
                <a:solidFill>
                  <a:srgbClr val="000000"/>
                </a:solidFill>
                <a:latin typeface="Calibri"/>
              </a:rPr>
              <a:t>4.  </a:t>
            </a:r>
            <a:r>
              <a:rPr b="1" lang="en-IN" sz="2200" spc="-1" strike="noStrike">
                <a:solidFill>
                  <a:srgbClr val="000000"/>
                </a:solidFill>
                <a:latin typeface="Calibri"/>
              </a:rPr>
              <a:t>Phenotypic assortative mating</a:t>
            </a:r>
            <a:endParaRPr b="0" lang="en-US" sz="22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Mating between individuals which are phenotypically more similar.  This type of mating leads to increase in homozygosity and division of population into two extremes. i.e. there is highest and lowest phenotypes remain in the population and there is no intermediate types. It is used in some breeding schemes e.g Recurrent selection</a:t>
            </a:r>
            <a:endParaRPr b="0" lang="en-US" sz="22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5.  </a:t>
            </a:r>
            <a:r>
              <a:rPr b="1" lang="en-IN" sz="3200" spc="-1" strike="noStrike">
                <a:solidFill>
                  <a:srgbClr val="000000"/>
                </a:solidFill>
                <a:latin typeface="Calibri"/>
              </a:rPr>
              <a:t>Phenotypic disassortative mating</a:t>
            </a:r>
            <a:endParaRPr b="0" lang="en-US" sz="32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ting  between  phenotypically  dissimilar  individuals.    This  system  leads  to maintenance of or increase in heterozygosity.</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ystem maintaining variability in realtively smaller population as it reduces inbree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ects of selection in cross pollinated crops</a:t>
            </a:r>
            <a:endParaRPr b="0" lang="en-US" sz="3200" spc="-1" strike="noStrike">
              <a:solidFill>
                <a:srgbClr val="000000"/>
              </a:solidFill>
              <a:latin typeface="Calibri"/>
            </a:endParaRPr>
          </a:p>
        </p:txBody>
      </p:sp>
      <p:sp>
        <p:nvSpPr>
          <p:cNvPr id="68" name=""/>
          <p:cNvSpPr txBox="1"/>
          <p:nvPr/>
        </p:nvSpPr>
        <p:spPr>
          <a:xfrm>
            <a:off x="50004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election in cross pollinated crops</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lection in a random mating population is able to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  Change the gene and genotypic frequency.</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 Production of new genotypes due to changed gene frequencies.</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i) Cause a shift in the mean of population towards the direction of selection.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v)  Change in the variance of population to some ext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ponse to selection in cross pollinated crops</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ivided into five broad groups.</a:t>
            </a:r>
            <a:endParaRPr b="0" lang="en-US" sz="24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  </a:t>
            </a:r>
            <a:r>
              <a:rPr b="1" lang="en-IN" sz="2400" spc="-1" strike="noStrike">
                <a:solidFill>
                  <a:srgbClr val="000000"/>
                </a:solidFill>
                <a:latin typeface="Calibri"/>
              </a:rPr>
              <a:t>Rapid gain followed by slow Progress</a:t>
            </a:r>
            <a:r>
              <a:rPr b="0" lang="en-IN"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  some  cases  selection  produces  rapid  gain  for  some  generations.  This  is followed by a period of slow gain.</a:t>
            </a:r>
            <a:endParaRPr b="0" lang="en-US" sz="24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type of response is seen in characters like plant height, days to flowering. These characters will be governed by a few genes with major effect and several genes with lesser effect.  The major genes will give rapid gain and several genes having lesser effect gives slow effec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Calibri"/>
              </a:rPr>
              <a:t>2.  Continued slow progress for a long period</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E.g.  Oil content and protein content in maize crop.</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This is because, that these traits are governed by several genes, each having a small additive effect.  So, progress under selection for such traits would be slow.</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3.  </a:t>
            </a:r>
            <a:r>
              <a:rPr b="1" lang="en-IN" sz="2200" spc="-1" strike="noStrike">
                <a:solidFill>
                  <a:srgbClr val="000000"/>
                </a:solidFill>
                <a:latin typeface="Calibri"/>
              </a:rPr>
              <a:t>Slow response for a shorter period only</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Here the response for selection will be for a shorter period only and afterwards there will be no response at all.   This is due poly genes which may be more than   40 which control a charact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4.  </a:t>
            </a:r>
            <a:r>
              <a:rPr b="1" lang="en-IN" sz="2400" spc="-1" strike="noStrike">
                <a:solidFill>
                  <a:srgbClr val="000000"/>
                </a:solidFill>
                <a:latin typeface="Calibri"/>
              </a:rPr>
              <a:t>Lack of response to select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ay be due to low heritability and additive gene action.  This was seen in maize when selection is practiced for yield.</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5.  </a:t>
            </a:r>
            <a:r>
              <a:rPr b="1" lang="en-IN" sz="2400" spc="-1" strike="noStrike">
                <a:solidFill>
                  <a:srgbClr val="000000"/>
                </a:solidFill>
                <a:latin typeface="Calibri"/>
              </a:rPr>
              <a:t>Rapid gain - plateau - Rapid gai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is due to linked genes both positive and negativ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IN" sz="3600" spc="-1" strike="noStrike">
                <a:solidFill>
                  <a:srgbClr val="000000"/>
                </a:solidFill>
                <a:latin typeface="Calibri"/>
              </a:rPr>
              <a:t>GENETIC STRUCTURE OF CROSS POLLINATED CROPS</a:t>
            </a:r>
            <a:br>
              <a:rPr sz="3600"/>
            </a:b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Cross pollinated crops are highly heterozygous due to free intermating.   These cross pollinated crops are referred as </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a)  Random mating population </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b)  Mendelian population</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c)  Panmictic population(</a:t>
            </a:r>
            <a:r>
              <a:rPr b="1" lang="en-IN" sz="2200" spc="-1" strike="noStrike">
                <a:solidFill>
                  <a:srgbClr val="000000"/>
                </a:solidFill>
                <a:latin typeface="Calibri"/>
              </a:rPr>
              <a:t>Panmixis-</a:t>
            </a:r>
            <a:r>
              <a:rPr b="0" lang="en-IN" sz="2200" spc="-1" strike="noStrike">
                <a:solidFill>
                  <a:srgbClr val="000000"/>
                </a:solidFill>
                <a:latin typeface="Calibri"/>
              </a:rPr>
              <a:t> mating without restriction)</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dom mating population: </a:t>
            </a:r>
            <a:r>
              <a:rPr b="0" lang="en-US" sz="2200" spc="-1" strike="noStrike">
                <a:solidFill>
                  <a:srgbClr val="000000"/>
                </a:solidFill>
                <a:latin typeface="Calibri"/>
              </a:rPr>
              <a:t>Each individual of the population has equal opportunity of mating with any other individaul of that population  without any restriction. Such population is known as Mendelian population or panmictic popul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enetic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understand the genetic make up of random mating population, a sophosticated field of study , population genetics has been developed.</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shall examine the elementary principles of population genetics in order to understand the genetic composition of random mating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N" sz="4000" spc="-1" strike="noStrike">
                <a:solidFill>
                  <a:srgbClr val="000000"/>
                </a:solidFill>
                <a:latin typeface="Calibri"/>
              </a:rPr>
              <a:t>Hardy - Weinberg Law</a:t>
            </a:r>
            <a:br>
              <a:rPr sz="4000"/>
            </a:br>
            <a:endParaRPr b="0" lang="en-US" sz="4000" spc="-1" strike="noStrike">
              <a:solidFill>
                <a:srgbClr val="000000"/>
              </a:solidFill>
              <a:latin typeface="Calibri"/>
            </a:endParaRPr>
          </a:p>
        </p:txBody>
      </p:sp>
      <p:sp>
        <p:nvSpPr>
          <p:cNvPr id="48" name=""/>
          <p:cNvSpPr txBox="1"/>
          <p:nvPr/>
        </p:nvSpPr>
        <p:spPr>
          <a:xfrm>
            <a:off x="428760" y="1213920"/>
            <a:ext cx="8229600" cy="4526280"/>
          </a:xfrm>
          <a:prstGeom prst="rect">
            <a:avLst/>
          </a:prstGeom>
          <a:noFill/>
          <a:ln w="0">
            <a:noFill/>
          </a:ln>
        </p:spPr>
        <p:txBody>
          <a:bodyPr anchor="t">
            <a:norm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Hardy - Weinberg Law </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fundamental law of population genetics and provides basis for studying Mendelian population</a:t>
            </a:r>
            <a:endParaRPr b="0" lang="en-US" sz="24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law was independently developed by </a:t>
            </a:r>
            <a:r>
              <a:rPr b="1" lang="en-IN" sz="2400" spc="-1" strike="noStrike">
                <a:solidFill>
                  <a:srgbClr val="000000"/>
                </a:solidFill>
                <a:latin typeface="Calibri"/>
              </a:rPr>
              <a:t>Hardy (1908) in </a:t>
            </a:r>
            <a:r>
              <a:rPr b="0" lang="en-IN" sz="2400" spc="-1" strike="noStrike">
                <a:solidFill>
                  <a:srgbClr val="000000"/>
                </a:solidFill>
                <a:latin typeface="Calibri"/>
              </a:rPr>
              <a:t>England and </a:t>
            </a:r>
            <a:r>
              <a:rPr b="1" lang="en-IN" sz="2400" spc="-1" strike="noStrike">
                <a:solidFill>
                  <a:srgbClr val="000000"/>
                </a:solidFill>
                <a:latin typeface="Calibri"/>
              </a:rPr>
              <a:t>Weinberg(1909) </a:t>
            </a:r>
            <a:r>
              <a:rPr b="0" lang="en-IN" sz="2400" spc="-1" strike="noStrike">
                <a:solidFill>
                  <a:srgbClr val="000000"/>
                </a:solidFill>
                <a:latin typeface="Calibri"/>
              </a:rPr>
              <a:t>in Germany.   </a:t>
            </a:r>
            <a:endParaRPr b="0" lang="en-US" sz="24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According to the law that “</a:t>
            </a:r>
            <a:r>
              <a:rPr b="1" i="1" lang="en-IN" sz="2400" spc="-1" strike="noStrike">
                <a:solidFill>
                  <a:srgbClr val="000000"/>
                </a:solidFill>
                <a:latin typeface="Calibri"/>
              </a:rPr>
              <a:t>gene and genotypic  frequencies in a random mating population remains constant generation after generation provided there is no selection, mutation, migration  and genetic drift”.</a:t>
            </a:r>
            <a:endParaRPr b="0" lang="en-US" sz="24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rdy –Weinberg Equilibrium</a:t>
            </a:r>
            <a:endParaRPr b="0" lang="en-US" sz="4000" spc="-1" strike="noStrike">
              <a:solidFill>
                <a:srgbClr val="000000"/>
              </a:solidFill>
              <a:latin typeface="Calibri"/>
            </a:endParaRPr>
          </a:p>
        </p:txBody>
      </p:sp>
      <p:sp>
        <p:nvSpPr>
          <p:cNvPr id="50" name=""/>
          <p:cNvSpPr txBox="1"/>
          <p:nvPr/>
        </p:nvSpPr>
        <p:spPr>
          <a:xfrm>
            <a:off x="428760" y="999720"/>
            <a:ext cx="8286480" cy="5643720"/>
          </a:xfrm>
          <a:prstGeom prst="rect">
            <a:avLst/>
          </a:prstGeom>
          <a:noFill/>
          <a:ln w="0">
            <a:noFill/>
          </a:ln>
        </p:spPr>
        <p:txBody>
          <a:bodyPr anchor="t">
            <a:normAutofit fontScale="87000"/>
          </a:bodyPr>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he frequencies on the three genotypes for a locus with two alleles say </a:t>
            </a:r>
            <a:br>
              <a:rPr sz="2000"/>
            </a:br>
            <a:r>
              <a:rPr b="0" i="1" lang="en-IN" sz="2000" spc="-1" strike="noStrike">
                <a:solidFill>
                  <a:srgbClr val="000000"/>
                </a:solidFill>
                <a:latin typeface="Calibri"/>
              </a:rPr>
              <a:t>A</a:t>
            </a:r>
            <a:r>
              <a:rPr b="0" lang="en-IN" sz="2000" spc="-1" strike="noStrike">
                <a:solidFill>
                  <a:srgbClr val="000000"/>
                </a:solidFill>
                <a:latin typeface="Calibri"/>
              </a:rPr>
              <a:t> and </a:t>
            </a:r>
            <a:r>
              <a:rPr b="0" i="1" lang="en-IN" sz="2000" spc="-1" strike="noStrike">
                <a:solidFill>
                  <a:srgbClr val="000000"/>
                </a:solidFill>
                <a:latin typeface="Calibri"/>
              </a:rPr>
              <a:t>a</a:t>
            </a:r>
            <a:r>
              <a:rPr b="0" lang="en-IN" sz="2000" spc="-1" strike="noStrike">
                <a:solidFill>
                  <a:srgbClr val="000000"/>
                </a:solidFill>
                <a:latin typeface="Calibri"/>
              </a:rPr>
              <a:t> would be p2 AA,  2pq  Aa and q2 aa</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Where  p  =  frequency of A</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q  =  frequency of  </a:t>
            </a:r>
            <a:r>
              <a:rPr b="0" i="1" lang="en-IN" sz="2000" spc="-1" strike="noStrike">
                <a:solidFill>
                  <a:srgbClr val="000000"/>
                </a:solidFill>
                <a:latin typeface="Calibri"/>
              </a:rPr>
              <a:t>a</a:t>
            </a:r>
            <a:r>
              <a:rPr b="0" lang="en-IN" sz="2000" spc="-1" strike="noStrike">
                <a:solidFill>
                  <a:srgbClr val="000000"/>
                </a:solidFill>
                <a:latin typeface="Calibri"/>
              </a:rPr>
              <a:t> in the population.</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he sum of p and q is one i.e</a:t>
            </a:r>
            <a:r>
              <a:rPr b="1" lang="en-IN" sz="2000" spc="-1" strike="noStrike">
                <a:solidFill>
                  <a:srgbClr val="000000"/>
                </a:solidFill>
                <a:latin typeface="Calibri"/>
              </a:rPr>
              <a:t>. p + q =1</a:t>
            </a:r>
            <a:r>
              <a:rPr b="0" lang="en-IN" sz="2000" spc="-1" strike="noStrike">
                <a:solidFill>
                  <a:srgbClr val="000000"/>
                </a:solidFill>
                <a:latin typeface="Calibri"/>
              </a:rPr>
              <a:t>.  ,      p=1-q    or   q=1-p</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Such a population would be equilibrium because the genotypic frequencies would be stable from one generation to next.   This equilibrium is known as Hardy- Weinberg equilibrium.   A population is said to be at equilibrium when the frequencies of the three genotypes </a:t>
            </a:r>
            <a:r>
              <a:rPr b="0" i="1" lang="en-IN" sz="2000" spc="-1" strike="noStrike">
                <a:solidFill>
                  <a:srgbClr val="000000"/>
                </a:solidFill>
                <a:latin typeface="Calibri"/>
              </a:rPr>
              <a:t>AA, Aa </a:t>
            </a:r>
            <a:r>
              <a:rPr b="0" lang="en-IN" sz="2000" spc="-1" strike="noStrike">
                <a:solidFill>
                  <a:srgbClr val="000000"/>
                </a:solidFill>
                <a:latin typeface="Calibri"/>
              </a:rPr>
              <a:t>and </a:t>
            </a:r>
            <a:r>
              <a:rPr b="0" i="1" lang="en-IN" sz="2000" spc="-1" strike="noStrike">
                <a:solidFill>
                  <a:srgbClr val="000000"/>
                </a:solidFill>
                <a:latin typeface="Calibri"/>
              </a:rPr>
              <a:t>aa</a:t>
            </a:r>
            <a:r>
              <a:rPr b="0" lang="en-IN" sz="2000" spc="-1" strike="noStrike">
                <a:solidFill>
                  <a:srgbClr val="000000"/>
                </a:solidFill>
                <a:latin typeface="Calibri"/>
              </a:rPr>
              <a:t> are P</a:t>
            </a:r>
            <a:r>
              <a:rPr b="0" lang="en-IN" sz="2800" spc="-1" strike="noStrike" baseline="30000">
                <a:solidFill>
                  <a:srgbClr val="000000"/>
                </a:solidFill>
                <a:latin typeface="Calibri"/>
              </a:rPr>
              <a:t>2</a:t>
            </a:r>
            <a:r>
              <a:rPr b="0" lang="en-IN" sz="2000" spc="-1" strike="noStrike">
                <a:solidFill>
                  <a:srgbClr val="000000"/>
                </a:solidFill>
                <a:latin typeface="Calibri"/>
              </a:rPr>
              <a:t> 2pq q2.</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Whether the population is at equilibrium or not can be tested by </a:t>
            </a:r>
            <a:br>
              <a:rPr sz="2000"/>
            </a:br>
            <a:r>
              <a:rPr b="0" lang="en-IN" sz="2000" spc="-1" strike="noStrike">
                <a:solidFill>
                  <a:srgbClr val="000000"/>
                </a:solidFill>
                <a:latin typeface="Calibri"/>
              </a:rPr>
              <a:t>chi-square test.</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Factors disturbing the equilibrium in the random mating population</a:t>
            </a:r>
            <a:endParaRPr b="0" lang="en-US" sz="3600" spc="-1" strike="noStrike">
              <a:solidFill>
                <a:srgbClr val="000000"/>
              </a:solidFill>
              <a:latin typeface="Calibri"/>
            </a:endParaRPr>
          </a:p>
        </p:txBody>
      </p:sp>
      <p:sp>
        <p:nvSpPr>
          <p:cNvPr id="52" name=""/>
          <p:cNvSpPr txBox="1"/>
          <p:nvPr/>
        </p:nvSpPr>
        <p:spPr>
          <a:xfrm>
            <a:off x="428760" y="157176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1.  </a:t>
            </a:r>
            <a:r>
              <a:rPr b="1" lang="en-IN" sz="2600" spc="-1" strike="noStrike">
                <a:solidFill>
                  <a:srgbClr val="000000"/>
                </a:solidFill>
                <a:latin typeface="Calibri"/>
              </a:rPr>
              <a:t>Migration :  </a:t>
            </a:r>
            <a:r>
              <a:rPr b="0" lang="en-IN" sz="2600" spc="-1" strike="noStrike">
                <a:solidFill>
                  <a:srgbClr val="000000"/>
                </a:solidFill>
                <a:latin typeface="Calibri"/>
              </a:rPr>
              <a:t>Movement of individuals into a population from a different population is known as Migration. Migration may introduce new alleles into a population which may change the gene frequencies.</a:t>
            </a:r>
            <a:endParaRPr b="0" lang="en-US" sz="26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2.   </a:t>
            </a:r>
            <a:r>
              <a:rPr b="1" lang="en-IN" sz="2600" spc="-1" strike="noStrike">
                <a:solidFill>
                  <a:srgbClr val="000000"/>
                </a:solidFill>
                <a:latin typeface="Calibri"/>
              </a:rPr>
              <a:t>Mutation   </a:t>
            </a:r>
            <a:r>
              <a:rPr b="0" lang="en-IN" sz="2600" spc="-1" strike="noStrike">
                <a:solidFill>
                  <a:srgbClr val="000000"/>
                </a:solidFill>
                <a:latin typeface="Calibri"/>
              </a:rPr>
              <a:t>:   It may produce a new allele not present in the population or it may change the frequencies of the  exhibiting allel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Factors disturbing the equilibrium in the population</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3.  </a:t>
            </a:r>
            <a:r>
              <a:rPr b="1" lang="en-IN" sz="2200" spc="-1" strike="noStrike">
                <a:solidFill>
                  <a:srgbClr val="000000"/>
                </a:solidFill>
                <a:latin typeface="Calibri"/>
              </a:rPr>
              <a:t>Random drift  </a:t>
            </a:r>
            <a:r>
              <a:rPr b="0" lang="en-IN" sz="2200" spc="-1" strike="noStrike">
                <a:solidFill>
                  <a:srgbClr val="000000"/>
                </a:solidFill>
                <a:latin typeface="Calibri"/>
              </a:rPr>
              <a:t>: It is other wise known as </a:t>
            </a:r>
            <a:r>
              <a:rPr b="1" lang="en-IN" sz="2200" spc="-1" strike="noStrike">
                <a:solidFill>
                  <a:srgbClr val="000000"/>
                </a:solidFill>
                <a:latin typeface="Calibri"/>
              </a:rPr>
              <a:t>genetic drift</a:t>
            </a:r>
            <a:r>
              <a:rPr b="0" lang="en-IN" sz="2200" spc="-1" strike="noStrike">
                <a:solidFill>
                  <a:srgbClr val="000000"/>
                </a:solidFill>
                <a:latin typeface="Calibri"/>
              </a:rPr>
              <a:t>.  It is a random </a:t>
            </a:r>
            <a:r>
              <a:rPr b="0" lang="en-IN" sz="2200" spc="-1" strike="noStrike" u="sng">
                <a:solidFill>
                  <a:srgbClr val="000000"/>
                </a:solidFill>
                <a:uFillTx/>
                <a:latin typeface="Calibri"/>
              </a:rPr>
              <a:t>change in gene frequency due to sampling error. </a:t>
            </a:r>
            <a:r>
              <a:rPr b="0" lang="en-IN"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In a smaller population if natural selection operates at random  it  will  lead  to  sampling  error.    </a:t>
            </a:r>
            <a:endParaRPr b="0" lang="en-US" sz="22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This  sampling  error  is  greater  in  smaller population than in a large one.  </a:t>
            </a:r>
            <a:endParaRPr b="0" lang="en-US" sz="22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Because of sampling the frequency of one of  the alleles becomes zero and that of the other alleles become on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Factors disturbing the equilibrium in the populatio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4.   </a:t>
            </a:r>
            <a:r>
              <a:rPr b="1" lang="en-IN" sz="2400" spc="-1" strike="noStrike">
                <a:solidFill>
                  <a:srgbClr val="000000"/>
                </a:solidFill>
                <a:latin typeface="Calibri"/>
              </a:rPr>
              <a:t>Inbreeding   </a:t>
            </a:r>
            <a:r>
              <a:rPr b="0" lang="en-IN" sz="2400" spc="-1" strike="noStrike">
                <a:solidFill>
                  <a:srgbClr val="000000"/>
                </a:solidFill>
                <a:latin typeface="Calibri"/>
              </a:rPr>
              <a:t>:  Mating between individual sharing common parent in their ancestry is known as inbreeding.  In smaller populations, a certain amount of inbreeding is bound to occur and this will lead to homozygosity.</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5.   </a:t>
            </a:r>
            <a:r>
              <a:rPr b="1" lang="en-IN" sz="2400" spc="-1" strike="noStrike">
                <a:solidFill>
                  <a:srgbClr val="000000"/>
                </a:solidFill>
                <a:latin typeface="Calibri"/>
              </a:rPr>
              <a:t>Selection   </a:t>
            </a:r>
            <a:r>
              <a:rPr b="0" lang="en-IN" sz="2400" spc="-1" strike="noStrike">
                <a:solidFill>
                  <a:srgbClr val="000000"/>
                </a:solidFill>
                <a:latin typeface="Calibri"/>
              </a:rPr>
              <a:t>:   differential  reproduction rates of various genotypes is know as selection. This is important because when you practice selection you allow the selected genotype to reproduce, while the undesirable genotypes are eli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stems of mating</a:t>
            </a:r>
            <a:endParaRPr b="0" lang="en-US" sz="4400" spc="-1" strike="noStrike">
              <a:solidFill>
                <a:srgbClr val="000000"/>
              </a:solidFill>
              <a:latin typeface="Calibri"/>
            </a:endParaRPr>
          </a:p>
        </p:txBody>
      </p:sp>
      <p:sp>
        <p:nvSpPr>
          <p:cNvPr id="58" name=""/>
          <p:cNvSpPr txBox="1"/>
          <p:nvPr/>
        </p:nvSpPr>
        <p:spPr>
          <a:xfrm>
            <a:off x="428760" y="1214280"/>
            <a:ext cx="8215200" cy="507240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The breeder has two basic tools to change the genetic composition of population </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i) selection  ii) mating system</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SYSTEMS OF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o change the genetic composition of a population we have got different systems of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1.  Random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2.  Genetic assortative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3.  Genetic disassortative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4.  Phenotypic assortative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5.  Phenotypic disassortative mating.</a:t>
            </a:r>
            <a:endParaRPr b="0" lang="en-US" sz="2000" spc="-1" strike="noStrike">
              <a:solidFill>
                <a:srgbClr val="000000"/>
              </a:solidFill>
              <a:latin typeface="Calibri"/>
            </a:endParaRPr>
          </a:p>
          <a:p>
            <a:pPr marL="339480" indent="-3394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17:24:19Z</dcterms:created>
  <dc:creator>kalaiyarasi</dc:creator>
  <dc:description/>
  <dc:language>en-US</dc:language>
  <cp:lastModifiedBy>user</cp:lastModifiedBy>
  <dcterms:modified xsi:type="dcterms:W3CDTF">2020-04-20T06:32:24Z</dcterms:modified>
  <cp:revision>51</cp:revision>
  <dc:subject/>
  <dc:title>Slide 1</dc:title>
</cp:coreProperties>
</file>